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9.gif" ContentType="image/gif"/>
  <Override PartName="/ppt/media/image11.jpeg" ContentType="image/jpeg"/>
  <Override PartName="/ppt/media/image16.jpeg" ContentType="image/jpeg"/>
  <Override PartName="/ppt/media/image15.gif" ContentType="image/gif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2DDAE-1184-4EE5-90F9-B24E949E36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62DB8-6F4F-4007-8F86-E057BE6A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C19393-393B-472F-8F74-22D86ECF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D447B5-E152-4F1F-8FF7-EE722FF75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2E1CBE-77AE-4356-A4A0-2E21ABDD7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9CDDE2-F72F-4070-AB36-442D304B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C2A303-9280-4425-B2CF-FD5D2C13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99F12E-C508-40BD-B3CA-169DE571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DDBD14-0ECE-40F0-A24E-7945089F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219835-1936-4D4A-BC4B-69135907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53D6CB-6E2B-4662-B36B-DFC030E95F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9E03F-92AF-444B-BD99-F1D80D09D2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858B4-A22A-408B-90B4-5E5523ED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34765-B3E2-429B-ACE6-695C43DF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29D4D-A452-4CA6-9B68-3B62BC93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78939-AFA4-4472-BEA3-675D424A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9E388-95FF-4FC9-9383-6AFC66CE7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B44FC-8E7F-4D58-9BE2-97AAEE816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A9AA9-B585-489D-85E7-1D2711F1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49271-9DA0-446C-8D57-F2FB1A0D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85063-1F1A-4EFA-9472-4A63C172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A1E4A-0EBD-45DE-A18D-BD1FE3D9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3956E-8A1D-4535-8284-5F8ADACC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0A863-99D1-4B79-A2E8-499606E49F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39293-E68B-4D0B-A1BC-6EA73431E0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454D2E-8A48-4D40-8F9E-6144419C61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D9BB76-7C44-4ED3-AA12-963C55D2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E08492-2174-4F9A-AEE7-67FA4F08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DB652D-B6FD-4388-B7AB-8C1E2A69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099C5F-2441-4FD8-AFD2-F32343DB3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0AD74B-30EC-423E-85FF-B236EE956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FB0161-59EA-47D5-9EEE-1FECCA48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3A9808-2CF4-4C4A-9DEF-46F59038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0D10B6-9E4E-4A99-809A-E63570CE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9E726-9F95-45DF-AD9B-3C30B43BC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313AFF-DA84-4D33-A98F-25452BC1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9F3C9C-52E3-45B4-AE3E-1D2F6A5D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05556A-F79B-4A41-AC79-4C160D1839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A5877C-DE3D-45EA-89B6-1C62256878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125CD8-77D8-4964-84C4-E35149D6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57542D-DE25-4BCA-8A85-CD09044D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AF8A95-BF23-4F8F-907B-C3504836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DE44B0-F28C-47B4-BD29-9E558733B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93693B-B50D-473C-B04C-54C24B535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536050-BB6C-4DEF-BA22-F2ED28B6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3567F-7F3E-456E-8999-1338A668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4C68B1-014E-49B7-9A48-E0101D0C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0E5A86-57DF-4C4D-8845-0615A7FF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9DF00D-AEB8-4EA1-AA3F-2CD22B5B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22B00A-2F35-4CC3-B2F7-A4FF1BDC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D095C2-9346-4799-9AE1-87E9E3FA5A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C6484-DB4D-45A1-81AB-FF4E21EA29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280D88-5717-47B4-9921-21F9E359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6F145-C8FA-4696-ACD8-F48BABB4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7BE733-D935-434C-A166-47B93C5D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D6EA61-67BB-4009-A63C-7039D7C1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7947B-192C-4D22-B36A-BCED5037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E7DFB0-4559-41C0-B438-964F71596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51361-113C-4A99-9B7D-9E9BFFCC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2EA39-1B8D-405A-8782-E187B90C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1CB47-F08E-467E-A17D-67E9DC0F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14634-F061-46FF-A275-D7A296D2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298F98-5A6B-4006-B7A6-E10FEB46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09FB11-E322-49DF-8F6A-3A44A207C3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EF050B-02F2-4CED-86DC-9B11ECEC0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E75FA3-8BCA-45FA-A324-C34D7085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A17FB-15B5-4E9E-A77E-A44073A4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0EFC4-06AA-4868-B5E6-79ED8CE0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352020-D828-4503-A076-0031B272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910DD0-8348-43C9-8845-E509F8D6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2DB75B-4777-4F58-A870-A262A8D3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A0957C-C07F-40EA-AD08-4F641F52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51469-9CBE-4EA4-A8C1-0F9FDBC7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4C6D92-DE39-4440-85B4-B76DFB58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BE1322-18D2-46AB-80D7-DA127A2A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751A50-619A-4D8E-B955-BB8B049EE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B85FF-8083-4BEE-A6D0-BA8CFD898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E8F9D-6648-4DF4-9DDE-1CB9FD0DC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EEF79-BC36-4994-B06C-6E10E0DC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DA73F-DE7B-46A6-A2D1-992079C8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A4814-D93E-43D9-92AA-3BB572EE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612C4-6DE7-4267-8564-4B19C2EF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08762-95C3-4470-B2F3-E2254154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0096E-0CDC-435D-987B-51A6B891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19072-5931-4266-8082-E34DBC4F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8D513-E716-456D-B003-549C78B4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4DF8F-AC28-4767-966C-F1DC2C72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848D4-4956-4E5D-8984-C6976C19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9BB52-6153-4935-9294-9AECDC138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BE947-93DA-4266-B381-D083DE8D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52B9B-DB6A-4745-9D7D-C99E5DE4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680EE7-B311-4895-ADDE-D3725E09B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C2FD8F-E6FF-41DD-B103-628F5448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C91177-5A70-4B55-9F59-538DE746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B1011E-A2CF-4B62-910B-273697ED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F46352-BFBA-4D2C-9B08-977AB803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38A0B8-E15A-4BF8-B80F-2899375C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0D8528-89F5-464A-9EAB-53688B12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15F27C-05E9-425D-A7EC-C98661BC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F68A80-A3E1-43F2-8BD0-17732C56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40E38-67F4-4AA0-8C00-DE1D4A87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F2CEF2-0705-427B-A5AD-99BE986E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4F2C07-084C-4AB7-AD44-6B46376B0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A0A73-F57F-4BD0-8C08-330E2E0FB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EE6346-AF2D-48D6-99EE-6497694B1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D8A8EB-3D50-48EF-A92A-6BCAC308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2C859E-3514-4A96-94A6-6A844AC0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711BCC-F802-453F-BF98-2CD6D7D1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45D71F-774C-4686-A4C9-73FA8259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0C22AE-2F2B-4F3D-B303-362C3315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6EEE03-8BE2-4FF0-AAA7-2D6BD108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8BA0D-E125-4EC2-95E5-737A90B0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CEA22-98D0-42E0-806E-DC06D160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84B5B3-EF91-48B6-90C2-098D17DB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D72A3C-BAF0-4F8F-83E9-A3B3BBE6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21A547-1E0F-406A-A100-AB08C80D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FA2014-9150-41D4-BF7B-FBCFD95F6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AE6DA4-319E-4DFD-B778-F93C37BAC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D3B15B-C8E4-4F8E-BBA8-8B568FC64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02DEB6-99E9-470E-8144-3CE8567B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93A0E8-9D04-4705-B899-D9839A0A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4C819A-0C80-4DAD-9243-6BE180B3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D45931-63F4-406A-8D18-4658751D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B88B3-0C43-4303-8735-27853328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99F352-A5E4-4E52-B8B9-3C99C709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E6DE6E-4CED-47E0-80C6-6FE73FE8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E6B671-194C-43EA-B2AA-B94DE220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F739BC-E37E-45C4-9717-F003A856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ABF308-71A1-48F5-BF65-D8645446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6C646D-656B-4C0F-B18F-539E94BEA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FC04F4-B19F-4AA6-B00B-5233A6705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52E788-C827-4076-A310-AD06F533E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085D40-B9AA-4C49-AF2A-7DABF72C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D2CF9A-E1BC-4089-9ED6-43FA4413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BDFEE-6813-4EAB-BEA7-F481301E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5B462E-09C1-48E9-A6AF-049949BC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E1C09E-FD64-43A2-85FE-359AB073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C868C2-955F-403E-88D8-85FE6971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697B5F-8C3E-4609-B8B0-01608095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7E2825-66F6-4E60-BA8F-D972978C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3C6C5C-47D6-4623-8246-E9217F6D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BC3160-F14D-469B-BD7F-9D91E540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FF9EFD-E334-410B-8C82-7D7CDF699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512572-06D7-4DAC-BE96-16035E26B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9CA763-DF2E-4FC9-AAED-7CB7C6470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AACDEE-D69E-4BE6-81FF-A88D3CE25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B44D26-FA4B-43C3-9A4D-077AE78B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7AB3C4-D889-41F5-81B7-8C3BAE60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65927B-1F07-4780-ABD0-FEECFFC2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7C5826-B727-4F9D-8FB3-CA543CA9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F8DD7D-E924-4E96-B7FD-20D21ACE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4A881B-D3F0-49FF-85D5-2519B154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DFC0C5-EFCA-4005-97D8-8F3CFDC4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DD9A84-550D-4879-9F7E-310453E6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167B7A-D6A7-406A-B929-00CF758B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922EF7-43AF-4D66-9ECE-71371C443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29ACC-8267-428E-B154-700A18A9D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7B9811-67D1-491A-A93D-7E9D56A63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12D651-AFDC-4B79-81A0-B8684ECE2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0B4574-5186-49F4-BA45-C37AF01E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299CA0-769D-4B13-8106-4E5CCBCC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44ACE6-523E-4D78-90D1-B43220D9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DB1897-8768-43F2-9E85-E151B082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9D0CEC-5F9B-4E6B-BC90-C128BF21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978F3F-FE0C-4AF5-8B20-B9D30133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82839F-6E96-414E-822B-EDC1A1CD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37C98B-EB57-4C72-BC15-A83CC76C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71E5EF-8457-41E9-BCFF-4FD74EAA34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00F0E4-6A4F-4360-9CE6-AF6E0C12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206B19-B36C-4CE0-AC7F-4B206E99A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FA4D8D-28BC-4FDB-8377-06BD7503E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64302C-17BA-4920-88A0-E3F11F421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5060BD-7F93-4582-B7AD-B18A66D9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BC5D98-09FF-4BE6-AAD6-FA69763F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AC45D5-87CA-45D2-ABC8-F99B0552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C16991-E70C-4333-8950-57621E54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36D1A7-84DA-4E63-8AC2-9A9DA7C7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BC3466-B652-4374-82A8-DC7CD063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77C315-C7F4-403C-B57D-7BC7C2C9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DB7137-D407-48BC-A532-2B71741F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3AF57A-220F-4C98-8A49-9BAD4249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0781B6-6787-4929-828E-1739AC0A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5EF7CA-5675-4E43-8C10-4A3E23560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03D32D-8CB2-4760-9258-F0519301B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CA499F-FEF8-4C28-B73A-C03DD6D7E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FDEA84-B290-4FB0-BB65-04695F69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7A6F8B-A997-4A86-9C21-F9A81122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7A93BD-BEAC-4935-B797-1CDDB429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162604-FFD5-4A38-8D5C-72C01AD1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069F69-4053-481F-9245-DF75B3F3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E22A54-6D5D-4C24-B6EE-5FC7EE5D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18EBE2-B4D0-46C1-9739-FEB08009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5EEFF3-F866-4263-9C44-945DCA23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B7F58A-59A7-4400-A9AB-FB57C9AD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7F3DC2-D325-4CF1-B755-93DE0327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2DCF90-F35D-421A-B7E4-49C76F8F0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035017-46AF-4AAC-8138-7C0B10A81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097435-4022-48FA-97BA-75C6D9C74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7229CC-CC2E-4E0C-9711-D5453953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934872-0973-4101-9F69-DF495102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676341-A99C-43EC-9809-0D9EB199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DC422B-C986-4E96-BEC1-E2D01DDB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10D86F-DED9-4F03-8004-263C4662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88D8E0-2906-4523-B28B-AAF88665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E11A59-BFDB-4C00-815A-65E26888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B964D4-DAD4-410A-9088-3F59FB11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A820F7-3134-4B9B-B2C3-E00D9617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D164DE-C17C-4CAB-BB62-D701460F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606160-1772-49FB-A25A-B0B294B8B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91B380-5710-4230-B901-BB166D277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FC9AC7-43D0-451D-B9FE-5BF6CB4C9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AB11D-B481-4790-959A-09DEC273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61E43F-48BB-452B-993C-842B3BE23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1681C8-050C-486A-AF4C-CEEDDE73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76E649-E032-40B3-AA9C-CD1F9596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AE6A9D-BD7F-4B8B-9E29-01339827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EDBB28-ACFA-41F3-B0A4-3FCEAD99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DA4314-9C9E-48F0-92A7-62648886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23BDD5-7D0E-4657-85E6-1482BA24D0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F696C-B12D-4318-BEF7-1106595952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BDD8E-B827-4949-87CF-86389463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FD8BC-58C8-4AD2-AB53-F987F4D8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86F0A-5C67-4774-B30D-E46620C1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3203D-4BEC-4156-9D7F-072415EC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648F5-33FE-47B4-B467-B57491960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F0B18-60F2-4859-9BDE-76FE9FA6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BC100-B6CE-43AC-B282-BC8206C7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D5567-FFBE-411B-B1F7-0E9BF355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FCB37-21B3-4417-A61C-6A28751C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EBB63-D4CE-4331-A651-771185FD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DAF44-18FD-47D5-ACCA-4AF67223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6C928-5BF6-4191-9D6A-349F37711B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5CCEAC-77FE-40C5-85E1-7F9D9B7432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D0498-B51E-45A3-916A-6951A671F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271C2F-5837-466D-8134-42B8C0AD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745B78-C10F-4CFE-83F7-E3F5B2E7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6A4798-47F9-4753-A5C3-65B68BA6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0A230B-E957-41AD-89D1-5B55A83FF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D321B5-EF52-4033-B169-6BD06225E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EC1F77-D952-4AB2-BA03-712A496D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F809B4-9F4D-4600-A7EB-294C971B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A15B5A-BDBF-4A1D-9EC7-573DDD66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E26171-CF7C-434B-883E-1A1D63F6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6F8EDB-EA19-465C-B8E7-0BE14C9A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056AD-255C-46BD-AE2F-C9E4CB391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D45BF7-0B7F-4089-A7C4-4EDD6BE28C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00FFAA-18C0-40E0-B578-453FB4CDF4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804488-6832-4D9B-BE6F-C338207E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373F77-B311-446D-97B5-43A4227F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CA172D-EDE2-4AC1-B64A-29F5AAA2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B5E64F-BBA7-4579-858B-8B3F6AEE0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41740D-05E0-4996-8084-4981F4782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EEF426-DF11-46D5-A577-45B28E81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36EE78-8248-49FA-A2B1-E3666ECA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C11592-75C8-417F-927E-600343BA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4F9EA-D386-4F0E-B378-4F07E011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E04A95-CD91-40C6-93BB-F3AEB888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1CD1E6-CAD5-4756-AF13-1BAD53EF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BFC1A5-5672-44D4-8496-FB71ED3990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B693A-E3A4-4D99-BD47-0646F6B28B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BFBC0-8255-4C10-B0AF-4D94B37E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2C98D-601C-47E8-9F3E-66D1B699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5EB58-6DF9-4E10-ACDB-48EB057C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01734-B06A-4415-A4CC-DEDF41137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80222-E182-4AD2-BEBA-3A5593258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03AA9-81C0-4DB6-9F41-E1474D3F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C83A2-688B-4BFB-9E61-B8EEB7E6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671E6-3D46-45DB-A1FC-80E0A5BC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841B3-9299-47EE-B686-94121938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2AD66-3C79-4846-B82D-40B05814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1076E-0E23-40FF-830E-A5C15316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994C1-23A3-401D-85C7-A55D638A24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AA43E7-CA02-4155-9DFF-E9202AB0CA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10EAC9-78C5-4868-86A4-1DFF5A6B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C4AFB8-2202-4C3D-8C28-AD2111C0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606025-C785-4A58-A648-96BCCB68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636A3D-B5FB-4CFA-B85D-F875BE0B0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E1ECC-D415-4BCD-9AD8-731BA01C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54073A-596F-4E60-99A6-E1D1FE59D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F45B28-2898-40CB-BFC6-28F5C790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2DC99C-7687-4419-8AE3-3A5063E7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5B9AE8-02EA-42AF-889B-DDA931CB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44EC7E-C5E5-4C15-9551-1CC12082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4DF913-1930-445B-A5D2-3AB15EEF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C954FF-4C65-4C6E-BCE5-7EC59CEA93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15D440-780A-4931-A50A-66FE9DCE45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DA6429-2FBE-4E41-949D-DC4AC244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BDA8B6-C40A-4D8A-930E-5B9B73D5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FD59-0FF6-4581-A9A6-A5CBE9CFB8A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A5D3-0C0D-41BB-8276-CF9093BEE4A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9289-1F27-4D74-866A-8D85AD8798A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667D-3A2E-4ED5-9726-9F2F3130E7D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73EE-E1CD-4DD6-A4B7-3C40C0151EB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0C0F-9136-449E-84D4-1E334A51BB1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ABC0-258A-45D2-AD42-18EE4279B7F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1D98-8706-49D5-86D3-6069F703917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223B-7CF6-45EE-BC0B-7FB6A5667EE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2A40-1725-4014-9D22-DDC64CCD071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932D-E340-48FF-AE1A-B0EAE4B4CA7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4647-CEC1-4DBF-823A-B079A443E86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0206-EC63-41FD-894D-7DC4B76AE38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0BFD-86DD-44EB-B516-40AE6C78270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FF15-28F5-4C92-B3D4-3E23F245FF1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3AA7-3FCB-4D2B-92B6-E834019719C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EBAD-1DD4-4C80-A2A4-1CF23E0026A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99EF-46A6-451E-9D73-58D3D98E0FD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DF6B-2212-4382-903C-F3534B86AAC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3A7E-B943-4CC3-870E-168F90FF44F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0ABE-2002-4E9F-9B5B-3AE3790938F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8D66-EDB2-4BB4-8FD5-28F08622D9F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294F-B89E-4FA5-9BD4-2BDCCFA33BA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D29D-5E2E-46A6-A388-6E59F0549D0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gif"/><Relationship Id="rId9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1.jpeg"/><Relationship Id="rId17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四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3041640" y="268920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52440" y="2647800"/>
            <a:ext cx="8445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口 算 除 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5621040" cy="360"/>
            <a:chOff x="2284560" y="2448000"/>
            <a:chExt cx="562104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562104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5621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168120" y="1744560"/>
            <a:ext cx="793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除数是两位数的除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72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73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74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5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6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0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82" name="Rectangle 64"/>
          <p:cNvSpPr/>
          <p:nvPr/>
        </p:nvSpPr>
        <p:spPr>
          <a:xfrm>
            <a:off x="438120" y="130320"/>
            <a:ext cx="2648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五、拓展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文本框 99"/>
          <p:cNvSpPr/>
          <p:nvPr/>
        </p:nvSpPr>
        <p:spPr>
          <a:xfrm>
            <a:off x="293760" y="907920"/>
            <a:ext cx="8062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直接写出得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00÷80=      420÷60=      180÷20=       150÷30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50×4=        80×2=        80×6=         60÷20=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40÷40=      150÷50=      280÷40=       400÷50=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560÷70=      490÷70=      540÷90=       720÷80=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60÷40=      480÷80=      560÷70=       200×4= 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文本框 1"/>
          <p:cNvSpPr/>
          <p:nvPr/>
        </p:nvSpPr>
        <p:spPr>
          <a:xfrm>
            <a:off x="1876320" y="149400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文本框 2"/>
          <p:cNvSpPr/>
          <p:nvPr/>
        </p:nvSpPr>
        <p:spPr>
          <a:xfrm>
            <a:off x="3726000" y="150804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文本框 3"/>
          <p:cNvSpPr/>
          <p:nvPr/>
        </p:nvSpPr>
        <p:spPr>
          <a:xfrm>
            <a:off x="5438880" y="149868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文本框 4"/>
          <p:cNvSpPr/>
          <p:nvPr/>
        </p:nvSpPr>
        <p:spPr>
          <a:xfrm>
            <a:off x="7359480" y="148284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文本框 7"/>
          <p:cNvSpPr/>
          <p:nvPr/>
        </p:nvSpPr>
        <p:spPr>
          <a:xfrm>
            <a:off x="1666800" y="194940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文本框 8"/>
          <p:cNvSpPr/>
          <p:nvPr/>
        </p:nvSpPr>
        <p:spPr>
          <a:xfrm>
            <a:off x="3463920" y="195588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1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文本框 9"/>
          <p:cNvSpPr/>
          <p:nvPr/>
        </p:nvSpPr>
        <p:spPr>
          <a:xfrm>
            <a:off x="5176800" y="1946160"/>
            <a:ext cx="59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4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文本框 10"/>
          <p:cNvSpPr/>
          <p:nvPr/>
        </p:nvSpPr>
        <p:spPr>
          <a:xfrm>
            <a:off x="7264440" y="193824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文本框 12"/>
          <p:cNvSpPr/>
          <p:nvPr/>
        </p:nvSpPr>
        <p:spPr>
          <a:xfrm>
            <a:off x="1862280" y="239724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文本框 14"/>
          <p:cNvSpPr/>
          <p:nvPr/>
        </p:nvSpPr>
        <p:spPr>
          <a:xfrm>
            <a:off x="3711600" y="241128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文本框 15"/>
          <p:cNvSpPr/>
          <p:nvPr/>
        </p:nvSpPr>
        <p:spPr>
          <a:xfrm>
            <a:off x="5424480" y="240192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文本框 16"/>
          <p:cNvSpPr/>
          <p:nvPr/>
        </p:nvSpPr>
        <p:spPr>
          <a:xfrm>
            <a:off x="7345440" y="238608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文本框 17"/>
          <p:cNvSpPr/>
          <p:nvPr/>
        </p:nvSpPr>
        <p:spPr>
          <a:xfrm>
            <a:off x="1871640" y="286380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文本框 18"/>
          <p:cNvSpPr/>
          <p:nvPr/>
        </p:nvSpPr>
        <p:spPr>
          <a:xfrm>
            <a:off x="3720960" y="287820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文本框 19"/>
          <p:cNvSpPr/>
          <p:nvPr/>
        </p:nvSpPr>
        <p:spPr>
          <a:xfrm>
            <a:off x="5433840" y="287028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文本框 20"/>
          <p:cNvSpPr/>
          <p:nvPr/>
        </p:nvSpPr>
        <p:spPr>
          <a:xfrm>
            <a:off x="7354800" y="285264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文本框 21"/>
          <p:cNvSpPr/>
          <p:nvPr/>
        </p:nvSpPr>
        <p:spPr>
          <a:xfrm>
            <a:off x="1854360" y="330516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文本框 22"/>
          <p:cNvSpPr/>
          <p:nvPr/>
        </p:nvSpPr>
        <p:spPr>
          <a:xfrm>
            <a:off x="3703680" y="331776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文本框 23"/>
          <p:cNvSpPr/>
          <p:nvPr/>
        </p:nvSpPr>
        <p:spPr>
          <a:xfrm>
            <a:off x="5416560" y="330984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文本框 24"/>
          <p:cNvSpPr/>
          <p:nvPr/>
        </p:nvSpPr>
        <p:spPr>
          <a:xfrm>
            <a:off x="7210440" y="3308400"/>
            <a:ext cx="7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8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0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6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207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8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9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15" name="Rectangle 64"/>
          <p:cNvSpPr/>
          <p:nvPr/>
        </p:nvSpPr>
        <p:spPr>
          <a:xfrm>
            <a:off x="438120" y="130320"/>
            <a:ext cx="2648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五、拓展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文本框 99"/>
          <p:cNvSpPr/>
          <p:nvPr/>
        </p:nvSpPr>
        <p:spPr>
          <a:xfrm>
            <a:off x="293760" y="907920"/>
            <a:ext cx="8062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直接写出得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00÷80=      420÷60=      180÷20=       150÷30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50×4=        80×2=        80×6=         60÷20=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40÷40=      150÷50=      280÷40=       400÷50=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560÷70=      490÷70=      540÷90=       720÷80=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60÷40=      480÷80=      560÷70=       200×4= 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文本框 1"/>
          <p:cNvSpPr/>
          <p:nvPr/>
        </p:nvSpPr>
        <p:spPr>
          <a:xfrm>
            <a:off x="1876320" y="149400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文本框 2"/>
          <p:cNvSpPr/>
          <p:nvPr/>
        </p:nvSpPr>
        <p:spPr>
          <a:xfrm>
            <a:off x="3726000" y="150804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文本框 3"/>
          <p:cNvSpPr/>
          <p:nvPr/>
        </p:nvSpPr>
        <p:spPr>
          <a:xfrm>
            <a:off x="5438880" y="149868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文本框 4"/>
          <p:cNvSpPr/>
          <p:nvPr/>
        </p:nvSpPr>
        <p:spPr>
          <a:xfrm>
            <a:off x="7359480" y="148284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文本框 7"/>
          <p:cNvSpPr/>
          <p:nvPr/>
        </p:nvSpPr>
        <p:spPr>
          <a:xfrm>
            <a:off x="1666800" y="194940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文本框 8"/>
          <p:cNvSpPr/>
          <p:nvPr/>
        </p:nvSpPr>
        <p:spPr>
          <a:xfrm>
            <a:off x="3463920" y="195588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1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文本框 9"/>
          <p:cNvSpPr/>
          <p:nvPr/>
        </p:nvSpPr>
        <p:spPr>
          <a:xfrm>
            <a:off x="5176800" y="1946160"/>
            <a:ext cx="59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4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文本框 10"/>
          <p:cNvSpPr/>
          <p:nvPr/>
        </p:nvSpPr>
        <p:spPr>
          <a:xfrm>
            <a:off x="7264440" y="193824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文本框 12"/>
          <p:cNvSpPr/>
          <p:nvPr/>
        </p:nvSpPr>
        <p:spPr>
          <a:xfrm>
            <a:off x="1862280" y="239724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文本框 14"/>
          <p:cNvSpPr/>
          <p:nvPr/>
        </p:nvSpPr>
        <p:spPr>
          <a:xfrm>
            <a:off x="3711600" y="241128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文本框 15"/>
          <p:cNvSpPr/>
          <p:nvPr/>
        </p:nvSpPr>
        <p:spPr>
          <a:xfrm>
            <a:off x="5424480" y="240192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文本框 16"/>
          <p:cNvSpPr/>
          <p:nvPr/>
        </p:nvSpPr>
        <p:spPr>
          <a:xfrm>
            <a:off x="7345440" y="238608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文本框 17"/>
          <p:cNvSpPr/>
          <p:nvPr/>
        </p:nvSpPr>
        <p:spPr>
          <a:xfrm>
            <a:off x="1871640" y="286380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文本框 18"/>
          <p:cNvSpPr/>
          <p:nvPr/>
        </p:nvSpPr>
        <p:spPr>
          <a:xfrm>
            <a:off x="3720960" y="287820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文本框 19"/>
          <p:cNvSpPr/>
          <p:nvPr/>
        </p:nvSpPr>
        <p:spPr>
          <a:xfrm>
            <a:off x="5433840" y="287028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文本框 20"/>
          <p:cNvSpPr/>
          <p:nvPr/>
        </p:nvSpPr>
        <p:spPr>
          <a:xfrm>
            <a:off x="7354800" y="285264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文本框 21"/>
          <p:cNvSpPr/>
          <p:nvPr/>
        </p:nvSpPr>
        <p:spPr>
          <a:xfrm>
            <a:off x="1854360" y="330516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文本框 22"/>
          <p:cNvSpPr/>
          <p:nvPr/>
        </p:nvSpPr>
        <p:spPr>
          <a:xfrm>
            <a:off x="3703680" y="331776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文本框 23"/>
          <p:cNvSpPr/>
          <p:nvPr/>
        </p:nvSpPr>
        <p:spPr>
          <a:xfrm>
            <a:off x="5416560" y="330984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文本框 24"/>
          <p:cNvSpPr/>
          <p:nvPr/>
        </p:nvSpPr>
        <p:spPr>
          <a:xfrm>
            <a:off x="7210440" y="3308400"/>
            <a:ext cx="7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8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TextBox 1"/>
          <p:cNvSpPr/>
          <p:nvPr/>
        </p:nvSpPr>
        <p:spPr>
          <a:xfrm>
            <a:off x="500040" y="1112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一、创设情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Box 2"/>
          <p:cNvSpPr/>
          <p:nvPr/>
        </p:nvSpPr>
        <p:spPr>
          <a:xfrm>
            <a:off x="857160" y="1000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口算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0×3=          60÷3=          30×9=          270÷3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9÷4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    84÷6=          31÷3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    72÷4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6÷5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    54÷3=          43÷6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    75÷5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Box 3"/>
          <p:cNvSpPr/>
          <p:nvPr/>
        </p:nvSpPr>
        <p:spPr>
          <a:xfrm>
            <a:off x="1917720" y="193680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6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Box 4"/>
          <p:cNvSpPr/>
          <p:nvPr/>
        </p:nvSpPr>
        <p:spPr>
          <a:xfrm>
            <a:off x="3675240" y="193212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Box 6"/>
          <p:cNvSpPr/>
          <p:nvPr/>
        </p:nvSpPr>
        <p:spPr>
          <a:xfrm>
            <a:off x="5576760" y="194004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27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Box 7"/>
          <p:cNvSpPr/>
          <p:nvPr/>
        </p:nvSpPr>
        <p:spPr>
          <a:xfrm>
            <a:off x="7532640" y="193212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9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Box 8"/>
          <p:cNvSpPr/>
          <p:nvPr/>
        </p:nvSpPr>
        <p:spPr>
          <a:xfrm>
            <a:off x="1739880" y="260208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Box 9"/>
          <p:cNvSpPr/>
          <p:nvPr/>
        </p:nvSpPr>
        <p:spPr>
          <a:xfrm>
            <a:off x="3479760" y="259704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Box 10"/>
          <p:cNvSpPr/>
          <p:nvPr/>
        </p:nvSpPr>
        <p:spPr>
          <a:xfrm>
            <a:off x="5273640" y="259704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Box 11"/>
          <p:cNvSpPr/>
          <p:nvPr/>
        </p:nvSpPr>
        <p:spPr>
          <a:xfrm>
            <a:off x="7024680" y="258768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Box 12"/>
          <p:cNvSpPr/>
          <p:nvPr/>
        </p:nvSpPr>
        <p:spPr>
          <a:xfrm>
            <a:off x="1792440" y="328284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Box 13"/>
          <p:cNvSpPr/>
          <p:nvPr/>
        </p:nvSpPr>
        <p:spPr>
          <a:xfrm>
            <a:off x="3497400" y="329400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Box 14"/>
          <p:cNvSpPr/>
          <p:nvPr/>
        </p:nvSpPr>
        <p:spPr>
          <a:xfrm>
            <a:off x="5372280" y="330984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Box 15"/>
          <p:cNvSpPr/>
          <p:nvPr/>
        </p:nvSpPr>
        <p:spPr>
          <a:xfrm>
            <a:off x="7040520" y="331956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3" name="组合 19"/>
          <p:cNvGrpSpPr/>
          <p:nvPr/>
        </p:nvGrpSpPr>
        <p:grpSpPr>
          <a:xfrm>
            <a:off x="1714680" y="4286160"/>
            <a:ext cx="5830560" cy="1285560"/>
            <a:chOff x="1714680" y="4286160"/>
            <a:chExt cx="5830560" cy="1285560"/>
          </a:xfrm>
        </p:grpSpPr>
        <p:pic>
          <p:nvPicPr>
            <p:cNvPr id="1024" name="图片 18" descr="E:\2017秋上·黄倩\其他\人\蜜蜂.gif蜜蜂"/>
            <p:cNvPicPr/>
            <p:nvPr/>
          </p:nvPicPr>
          <p:blipFill>
            <a:blip r:embed="rId8"/>
            <a:stretch/>
          </p:blipFill>
          <p:spPr>
            <a:xfrm>
              <a:off x="6508440" y="4428720"/>
              <a:ext cx="10368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5" name="TextBox 16"/>
            <p:cNvSpPr/>
            <p:nvPr/>
          </p:nvSpPr>
          <p:spPr>
            <a:xfrm>
              <a:off x="1785960" y="4286160"/>
              <a:ext cx="9140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除数是两位数的除法怎样口算呢？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圆角矩形标注 17"/>
            <p:cNvSpPr/>
            <p:nvPr/>
          </p:nvSpPr>
          <p:spPr>
            <a:xfrm>
              <a:off x="1714680" y="4286160"/>
              <a:ext cx="4857120" cy="500040"/>
            </a:xfrm>
            <a:prstGeom prst="wedgeRoundRectCallout">
              <a:avLst>
                <a:gd name="adj1" fmla="val 48490"/>
                <a:gd name="adj2" fmla="val 93717"/>
                <a:gd name="adj3" fmla="val 16667"/>
              </a:avLst>
            </a:prstGeom>
            <a:noFill/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28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9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30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1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2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38" name="TextBox 1"/>
          <p:cNvSpPr/>
          <p:nvPr/>
        </p:nvSpPr>
        <p:spPr>
          <a:xfrm>
            <a:off x="357120" y="142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二、自主探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文本框 5134"/>
          <p:cNvSpPr/>
          <p:nvPr/>
        </p:nvSpPr>
        <p:spPr>
          <a:xfrm>
            <a:off x="1389240" y="4735440"/>
            <a:ext cx="62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想一想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3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≈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≈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0" name="组合 49"/>
          <p:cNvGrpSpPr/>
          <p:nvPr/>
        </p:nvGrpSpPr>
        <p:grpSpPr>
          <a:xfrm>
            <a:off x="919080" y="2284560"/>
            <a:ext cx="6927480" cy="1150920"/>
            <a:chOff x="919080" y="2284560"/>
            <a:chExt cx="6927480" cy="1150920"/>
          </a:xfrm>
        </p:grpSpPr>
        <p:grpSp>
          <p:nvGrpSpPr>
            <p:cNvPr id="1041" name="Group 86"/>
            <p:cNvGrpSpPr/>
            <p:nvPr/>
          </p:nvGrpSpPr>
          <p:grpSpPr>
            <a:xfrm>
              <a:off x="2684520" y="2381400"/>
              <a:ext cx="1376280" cy="1000080"/>
              <a:chOff x="2684520" y="2381400"/>
              <a:chExt cx="1376280" cy="1000080"/>
            </a:xfrm>
          </p:grpSpPr>
          <p:pic>
            <p:nvPicPr>
              <p:cNvPr id="1042" name="Picture 87" descr="55"/>
              <p:cNvPicPr/>
              <p:nvPr/>
            </p:nvPicPr>
            <p:blipFill>
              <a:blip r:embed="rId8"/>
              <a:stretch/>
            </p:blipFill>
            <p:spPr>
              <a:xfrm>
                <a:off x="2684520" y="2381400"/>
                <a:ext cx="712080" cy="10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3" name="Picture 88" descr="55"/>
              <p:cNvPicPr/>
              <p:nvPr/>
            </p:nvPicPr>
            <p:blipFill>
              <a:blip r:embed="rId9"/>
              <a:stretch/>
            </p:blipFill>
            <p:spPr>
              <a:xfrm>
                <a:off x="3348720" y="2381400"/>
                <a:ext cx="712080" cy="1000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4" name="Group 91"/>
            <p:cNvGrpSpPr/>
            <p:nvPr/>
          </p:nvGrpSpPr>
          <p:grpSpPr>
            <a:xfrm>
              <a:off x="4543560" y="2381400"/>
              <a:ext cx="1360440" cy="1000080"/>
              <a:chOff x="4543560" y="2381400"/>
              <a:chExt cx="1360440" cy="1000080"/>
            </a:xfrm>
          </p:grpSpPr>
          <p:pic>
            <p:nvPicPr>
              <p:cNvPr id="1045" name="Picture 92" descr="55"/>
              <p:cNvPicPr/>
              <p:nvPr/>
            </p:nvPicPr>
            <p:blipFill>
              <a:blip r:embed="rId10"/>
              <a:stretch/>
            </p:blipFill>
            <p:spPr>
              <a:xfrm>
                <a:off x="4543560" y="2381400"/>
                <a:ext cx="711720" cy="10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6" name="Picture 93" descr="55"/>
              <p:cNvPicPr/>
              <p:nvPr/>
            </p:nvPicPr>
            <p:blipFill>
              <a:blip r:embed="rId11"/>
              <a:stretch/>
            </p:blipFill>
            <p:spPr>
              <a:xfrm>
                <a:off x="5192280" y="2381400"/>
                <a:ext cx="711720" cy="1000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7" name="Group 96"/>
            <p:cNvGrpSpPr/>
            <p:nvPr/>
          </p:nvGrpSpPr>
          <p:grpSpPr>
            <a:xfrm>
              <a:off x="6434280" y="2381400"/>
              <a:ext cx="1412280" cy="1000080"/>
              <a:chOff x="6434280" y="2381400"/>
              <a:chExt cx="1412280" cy="1000080"/>
            </a:xfrm>
          </p:grpSpPr>
          <p:pic>
            <p:nvPicPr>
              <p:cNvPr id="1048" name="Picture 97" descr="55"/>
              <p:cNvPicPr/>
              <p:nvPr/>
            </p:nvPicPr>
            <p:blipFill>
              <a:blip r:embed="rId12"/>
              <a:stretch/>
            </p:blipFill>
            <p:spPr>
              <a:xfrm>
                <a:off x="6434280" y="2381400"/>
                <a:ext cx="712440" cy="10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9" name="Picture 98" descr="55"/>
              <p:cNvPicPr/>
              <p:nvPr/>
            </p:nvPicPr>
            <p:blipFill>
              <a:blip r:embed="rId13"/>
              <a:stretch/>
            </p:blipFill>
            <p:spPr>
              <a:xfrm>
                <a:off x="7134120" y="2381400"/>
                <a:ext cx="712440" cy="1000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0" name=""/>
            <p:cNvGrpSpPr/>
            <p:nvPr/>
          </p:nvGrpSpPr>
          <p:grpSpPr>
            <a:xfrm>
              <a:off x="2401920" y="2284560"/>
              <a:ext cx="360" cy="1150920"/>
              <a:chOff x="2401920" y="2284560"/>
              <a:chExt cx="360" cy="1150920"/>
            </a:xfrm>
          </p:grpSpPr>
          <p:sp>
            <p:nvSpPr>
              <p:cNvPr id="1051" name="直接连接符 17"/>
              <p:cNvSpPr/>
              <p:nvPr/>
            </p:nvSpPr>
            <p:spPr>
              <a:xfrm>
                <a:off x="2401920" y="2284560"/>
                <a:ext cx="0" cy="115092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 txBox="1"/>
              <p:nvPr/>
            </p:nvSpPr>
            <p:spPr>
              <a:xfrm>
                <a:off x="2401920" y="2284560"/>
                <a:ext cx="360" cy="1150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3" name=""/>
            <p:cNvGrpSpPr/>
            <p:nvPr/>
          </p:nvGrpSpPr>
          <p:grpSpPr>
            <a:xfrm>
              <a:off x="4278240" y="2284560"/>
              <a:ext cx="360" cy="1150920"/>
              <a:chOff x="4278240" y="2284560"/>
              <a:chExt cx="360" cy="1150920"/>
            </a:xfrm>
          </p:grpSpPr>
          <p:sp>
            <p:nvSpPr>
              <p:cNvPr id="1054" name="直接连接符 18"/>
              <p:cNvSpPr/>
              <p:nvPr/>
            </p:nvSpPr>
            <p:spPr>
              <a:xfrm>
                <a:off x="4278240" y="2284560"/>
                <a:ext cx="0" cy="115092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 txBox="1"/>
              <p:nvPr/>
            </p:nvSpPr>
            <p:spPr>
              <a:xfrm>
                <a:off x="4278240" y="2284560"/>
                <a:ext cx="360" cy="1150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6218640" y="2284560"/>
              <a:ext cx="360" cy="1150920"/>
              <a:chOff x="6218640" y="2284560"/>
              <a:chExt cx="360" cy="1150920"/>
            </a:xfrm>
          </p:grpSpPr>
          <p:sp>
            <p:nvSpPr>
              <p:cNvPr id="1057" name="直接连接符 19"/>
              <p:cNvSpPr/>
              <p:nvPr/>
            </p:nvSpPr>
            <p:spPr>
              <a:xfrm>
                <a:off x="6218640" y="2284560"/>
                <a:ext cx="0" cy="115092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 txBox="1"/>
              <p:nvPr/>
            </p:nvSpPr>
            <p:spPr>
              <a:xfrm>
                <a:off x="6218640" y="2284560"/>
                <a:ext cx="360" cy="1150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59" name="Picture 72" descr="55"/>
            <p:cNvPicPr/>
            <p:nvPr/>
          </p:nvPicPr>
          <p:blipFill>
            <a:blip r:embed="rId14"/>
            <a:stretch/>
          </p:blipFill>
          <p:spPr>
            <a:xfrm>
              <a:off x="919080" y="2354400"/>
              <a:ext cx="71280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0" name="Picture 73" descr="55"/>
            <p:cNvPicPr/>
            <p:nvPr/>
          </p:nvPicPr>
          <p:blipFill>
            <a:blip r:embed="rId15"/>
            <a:stretch/>
          </p:blipFill>
          <p:spPr>
            <a:xfrm>
              <a:off x="1555560" y="2354400"/>
              <a:ext cx="711000" cy="100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1" name="Rectangle 34"/>
          <p:cNvSpPr/>
          <p:nvPr/>
        </p:nvSpPr>
        <p:spPr>
          <a:xfrm>
            <a:off x="787320" y="855720"/>
            <a:ext cx="73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面彩旗，每班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面，可以分给几个班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2" name="组合 53"/>
          <p:cNvGrpSpPr/>
          <p:nvPr/>
        </p:nvGrpSpPr>
        <p:grpSpPr>
          <a:xfrm>
            <a:off x="519120" y="3514680"/>
            <a:ext cx="4552920" cy="995400"/>
            <a:chOff x="519120" y="3514680"/>
            <a:chExt cx="4552920" cy="995400"/>
          </a:xfrm>
        </p:grpSpPr>
        <p:pic>
          <p:nvPicPr>
            <p:cNvPr id="1063" name="图片 50" descr="E:\2017秋上·黄倩\其他\人\海豚.jpg海豚"/>
            <p:cNvPicPr/>
            <p:nvPr/>
          </p:nvPicPr>
          <p:blipFill>
            <a:blip r:embed="rId16"/>
            <a:stretch/>
          </p:blipFill>
          <p:spPr>
            <a:xfrm>
              <a:off x="519120" y="3569400"/>
              <a:ext cx="774000" cy="94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4" name="AutoShape 27"/>
            <p:cNvSpPr/>
            <p:nvPr/>
          </p:nvSpPr>
          <p:spPr>
            <a:xfrm>
              <a:off x="1696680" y="3514680"/>
              <a:ext cx="3375360" cy="910440"/>
            </a:xfrm>
            <a:prstGeom prst="wedgeRoundRectCallout">
              <a:avLst>
                <a:gd name="adj1" fmla="val -58268"/>
                <a:gd name="adj2" fmla="val -70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        ）个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是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，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0÷20=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        ）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5" name="TextBox 48"/>
          <p:cNvSpPr/>
          <p:nvPr/>
        </p:nvSpPr>
        <p:spPr>
          <a:xfrm>
            <a:off x="1285920" y="1714680"/>
            <a:ext cx="1271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80÷20=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八边形 7"/>
          <p:cNvSpPr/>
          <p:nvPr/>
        </p:nvSpPr>
        <p:spPr>
          <a:xfrm>
            <a:off x="216000" y="825480"/>
            <a:ext cx="52236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组合 1"/>
          <p:cNvGrpSpPr/>
          <p:nvPr/>
        </p:nvGrpSpPr>
        <p:grpSpPr>
          <a:xfrm>
            <a:off x="225360" y="784080"/>
            <a:ext cx="1884240" cy="459720"/>
            <a:chOff x="225360" y="784080"/>
            <a:chExt cx="1884240" cy="459720"/>
          </a:xfrm>
        </p:grpSpPr>
        <p:sp>
          <p:nvSpPr>
            <p:cNvPr id="1068" name="TextBox 3"/>
            <p:cNvSpPr/>
            <p:nvPr/>
          </p:nvSpPr>
          <p:spPr>
            <a:xfrm>
              <a:off x="329760" y="784080"/>
              <a:ext cx="177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00b0f0"/>
                  </a:solidFill>
                  <a:latin typeface="Arial"/>
                  <a:ea typeface="宋体"/>
                </a:rPr>
                <a:t>理解题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缺角矩形 37"/>
            <p:cNvSpPr/>
            <p:nvPr/>
          </p:nvSpPr>
          <p:spPr>
            <a:xfrm>
              <a:off x="225360" y="904680"/>
              <a:ext cx="215640" cy="215640"/>
            </a:xfrm>
            <a:custGeom>
              <a:avLst/>
              <a:gdLst>
                <a:gd name="textAreaLeft" fmla="*/ 25200 w 215640"/>
                <a:gd name="textAreaRight" fmla="*/ 190440 w 215640"/>
                <a:gd name="textAreaTop" fmla="*/ 25200 h 215640"/>
                <a:gd name="textAreaBottom" fmla="*/ 1904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00" y="2160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0" name="文本框 3"/>
          <p:cNvSpPr/>
          <p:nvPr/>
        </p:nvSpPr>
        <p:spPr>
          <a:xfrm>
            <a:off x="530280" y="1279440"/>
            <a:ext cx="814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面彩旗，每班分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面，求可以分给几个班，也就是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里面有几个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用除法计算，列式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÷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题中每个算式中都有一个整十数，另一个是接近整十数的数，结果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“≈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连接，也就是用估算的方法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1" name="组合 6"/>
          <p:cNvGrpSpPr/>
          <p:nvPr/>
        </p:nvGrpSpPr>
        <p:grpSpPr>
          <a:xfrm>
            <a:off x="225360" y="3006720"/>
            <a:ext cx="8302680" cy="2553120"/>
            <a:chOff x="225360" y="3006720"/>
            <a:chExt cx="8302680" cy="2553120"/>
          </a:xfrm>
        </p:grpSpPr>
        <p:grpSp>
          <p:nvGrpSpPr>
            <p:cNvPr id="1072" name="组合 38"/>
            <p:cNvGrpSpPr/>
            <p:nvPr/>
          </p:nvGrpSpPr>
          <p:grpSpPr>
            <a:xfrm>
              <a:off x="225360" y="3006720"/>
              <a:ext cx="2147760" cy="459720"/>
              <a:chOff x="225360" y="3006720"/>
              <a:chExt cx="2147760" cy="459720"/>
            </a:xfrm>
          </p:grpSpPr>
          <p:sp>
            <p:nvSpPr>
              <p:cNvPr id="1073" name="TextBox 3"/>
              <p:cNvSpPr/>
              <p:nvPr/>
            </p:nvSpPr>
            <p:spPr>
              <a:xfrm>
                <a:off x="329760" y="3006720"/>
                <a:ext cx="2043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zh-CN" sz="2400" spc="-1" strike="noStrike">
                    <a:solidFill>
                      <a:srgbClr val="00b0f0"/>
                    </a:solidFill>
                    <a:latin typeface="Arial"/>
                    <a:ea typeface="宋体"/>
                  </a:rPr>
                  <a:t>解法探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缺角矩形 40"/>
              <p:cNvSpPr/>
              <p:nvPr/>
            </p:nvSpPr>
            <p:spPr>
              <a:xfrm>
                <a:off x="225360" y="3127320"/>
                <a:ext cx="215640" cy="215640"/>
              </a:xfrm>
              <a:custGeom>
                <a:avLst/>
                <a:gdLst>
                  <a:gd name="textAreaLeft" fmla="*/ 25200 w 215640"/>
                  <a:gd name="textAreaRight" fmla="*/ 190440 w 215640"/>
                  <a:gd name="textAreaTop" fmla="*/ 25200 h 215640"/>
                  <a:gd name="textAreaBottom" fmla="*/ 190440 h 21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600" y="0"/>
                    </a:moveTo>
                    <a:arcTo wR="3600" hR="3600" stAng="0" swAng="5400000"/>
                    <a:lnTo>
                      <a:pt x="0" y="18000"/>
                    </a:lnTo>
                    <a:arcTo wR="3600" hR="3600" stAng="16200000" swAng="5400000"/>
                    <a:lnTo>
                      <a:pt x="18000" y="21600"/>
                    </a:lnTo>
                    <a:arcTo wR="3600" hR="3600" stAng="10800000" swAng="5400000"/>
                    <a:lnTo>
                      <a:pt x="21600" y="3600"/>
                    </a:lnTo>
                    <a:arcTo wR="3600" hR="3600" stAng="5400000" swAng="5400000"/>
                    <a:close/>
                  </a:path>
                </a:pathLst>
              </a:custGeom>
              <a:solidFill>
                <a:srgbClr val="00b0f0"/>
              </a:solidFill>
              <a:ln w="1260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5" name="文本框 4"/>
            <p:cNvSpPr/>
            <p:nvPr/>
          </p:nvSpPr>
          <p:spPr>
            <a:xfrm>
              <a:off x="615240" y="3637080"/>
              <a:ext cx="7912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除法是乘法的逆运算。因为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×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=80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，所以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÷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=4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估算时，通常把算式中不是整十数的用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四舍五入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法看作与它接近的整十数，然后用整十数除以整十数口算出结果。本题中分别把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3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看作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，把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看作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，然后口算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6" name="组合 41"/>
          <p:cNvGrpSpPr/>
          <p:nvPr/>
        </p:nvGrpSpPr>
        <p:grpSpPr>
          <a:xfrm>
            <a:off x="324000" y="766800"/>
            <a:ext cx="2147400" cy="459720"/>
            <a:chOff x="324000" y="766800"/>
            <a:chExt cx="2147400" cy="459720"/>
          </a:xfrm>
        </p:grpSpPr>
        <p:sp>
          <p:nvSpPr>
            <p:cNvPr id="1077" name="TextBox 3"/>
            <p:cNvSpPr/>
            <p:nvPr/>
          </p:nvSpPr>
          <p:spPr>
            <a:xfrm>
              <a:off x="428400" y="766800"/>
              <a:ext cx="20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00b0f0"/>
                  </a:solidFill>
                  <a:latin typeface="Arial"/>
                  <a:ea typeface="宋体"/>
                </a:rPr>
                <a:t>规范解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缺角矩形 43"/>
            <p:cNvSpPr/>
            <p:nvPr/>
          </p:nvSpPr>
          <p:spPr>
            <a:xfrm>
              <a:off x="324000" y="887400"/>
              <a:ext cx="215640" cy="215640"/>
            </a:xfrm>
            <a:custGeom>
              <a:avLst/>
              <a:gdLst>
                <a:gd name="textAreaLeft" fmla="*/ 25200 w 215640"/>
                <a:gd name="textAreaRight" fmla="*/ 190440 w 215640"/>
                <a:gd name="textAreaTop" fmla="*/ 25200 h 215640"/>
                <a:gd name="textAreaBottom" fmla="*/ 1904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00" y="2160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9" name="文本框 6"/>
          <p:cNvSpPr/>
          <p:nvPr/>
        </p:nvSpPr>
        <p:spPr>
          <a:xfrm>
            <a:off x="423720" y="1162080"/>
            <a:ext cx="8383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=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个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答：可以分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≈4            8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≈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TextBox 4"/>
          <p:cNvSpPr/>
          <p:nvPr/>
        </p:nvSpPr>
        <p:spPr>
          <a:xfrm>
            <a:off x="142920" y="1714680"/>
            <a:ext cx="1200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. 60÷20=           90÷30=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40÷20=         100÷20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62÷20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≈ 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93÷30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≈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2÷20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≈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03÷20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≈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Box 6"/>
          <p:cNvSpPr/>
          <p:nvPr/>
        </p:nvSpPr>
        <p:spPr>
          <a:xfrm>
            <a:off x="1554120" y="1879560"/>
            <a:ext cx="428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Box 16"/>
          <p:cNvSpPr/>
          <p:nvPr/>
        </p:nvSpPr>
        <p:spPr>
          <a:xfrm>
            <a:off x="3619440" y="1851120"/>
            <a:ext cx="428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TextBox 17"/>
          <p:cNvSpPr/>
          <p:nvPr/>
        </p:nvSpPr>
        <p:spPr>
          <a:xfrm>
            <a:off x="5537160" y="1830240"/>
            <a:ext cx="428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Box 18"/>
          <p:cNvSpPr/>
          <p:nvPr/>
        </p:nvSpPr>
        <p:spPr>
          <a:xfrm>
            <a:off x="7664400" y="1878120"/>
            <a:ext cx="428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Box 19"/>
          <p:cNvSpPr/>
          <p:nvPr/>
        </p:nvSpPr>
        <p:spPr>
          <a:xfrm>
            <a:off x="1565280" y="2422440"/>
            <a:ext cx="428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Box 20"/>
          <p:cNvSpPr/>
          <p:nvPr/>
        </p:nvSpPr>
        <p:spPr>
          <a:xfrm>
            <a:off x="3630600" y="2435400"/>
            <a:ext cx="428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TextBox 21"/>
          <p:cNvSpPr/>
          <p:nvPr/>
        </p:nvSpPr>
        <p:spPr>
          <a:xfrm>
            <a:off x="5548320" y="2406600"/>
            <a:ext cx="428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Box 22"/>
          <p:cNvSpPr/>
          <p:nvPr/>
        </p:nvSpPr>
        <p:spPr>
          <a:xfrm>
            <a:off x="7763040" y="2448000"/>
            <a:ext cx="428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组合 26"/>
          <p:cNvGrpSpPr/>
          <p:nvPr/>
        </p:nvGrpSpPr>
        <p:grpSpPr>
          <a:xfrm>
            <a:off x="1928880" y="3429000"/>
            <a:ext cx="5792760" cy="1428840"/>
            <a:chOff x="1928880" y="3429000"/>
            <a:chExt cx="5792760" cy="1428840"/>
          </a:xfrm>
        </p:grpSpPr>
        <p:pic>
          <p:nvPicPr>
            <p:cNvPr id="1090" name="图片 25" descr="00.gif"/>
            <p:cNvPicPr/>
            <p:nvPr/>
          </p:nvPicPr>
          <p:blipFill>
            <a:blip r:embed="rId1"/>
            <a:stretch/>
          </p:blipFill>
          <p:spPr>
            <a:xfrm>
              <a:off x="6357240" y="3429000"/>
              <a:ext cx="136440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1" name="TextBox 23"/>
            <p:cNvSpPr/>
            <p:nvPr/>
          </p:nvSpPr>
          <p:spPr>
            <a:xfrm>
              <a:off x="1928880" y="3500280"/>
              <a:ext cx="9140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注意观察每组算式有什么不同？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圆角矩形标注 24"/>
            <p:cNvSpPr/>
            <p:nvPr/>
          </p:nvSpPr>
          <p:spPr>
            <a:xfrm>
              <a:off x="1928880" y="3500280"/>
              <a:ext cx="4428360" cy="500040"/>
            </a:xfrm>
            <a:prstGeom prst="wedgeRoundRectCallout">
              <a:avLst>
                <a:gd name="adj1" fmla="val 50814"/>
                <a:gd name="adj2" fmla="val 89254"/>
                <a:gd name="adj3" fmla="val 16667"/>
              </a:avLst>
            </a:prstGeom>
            <a:noFill/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3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94" name="圆角矩形 5" descr=""/>
            <p:cNvPicPr/>
            <p:nvPr/>
          </p:nvPicPr>
          <p:blipFill>
            <a:blip r:embed="rId2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5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96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7" name="椭圆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8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9" name="椭圆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0" name="圆角矩形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1" name="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2" name="圆角矩形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3" name="圆角矩形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04" name="Rectangle 64"/>
          <p:cNvSpPr/>
          <p:nvPr/>
        </p:nvSpPr>
        <p:spPr>
          <a:xfrm>
            <a:off x="430200" y="196920"/>
            <a:ext cx="2876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5" name="组合 41"/>
          <p:cNvGrpSpPr/>
          <p:nvPr/>
        </p:nvGrpSpPr>
        <p:grpSpPr>
          <a:xfrm>
            <a:off x="356760" y="2143080"/>
            <a:ext cx="4764600" cy="1922400"/>
            <a:chOff x="356760" y="2143080"/>
            <a:chExt cx="4764600" cy="1922400"/>
          </a:xfrm>
        </p:grpSpPr>
        <p:sp>
          <p:nvSpPr>
            <p:cNvPr id="1106" name="AutoShape 27"/>
            <p:cNvSpPr/>
            <p:nvPr/>
          </p:nvSpPr>
          <p:spPr>
            <a:xfrm>
              <a:off x="1643040" y="2143080"/>
              <a:ext cx="3478320" cy="987480"/>
            </a:xfrm>
            <a:prstGeom prst="wedgeRoundRectCallout">
              <a:avLst>
                <a:gd name="adj1" fmla="val -56013"/>
                <a:gd name="adj2" fmla="val -328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       ）个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是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，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50÷50=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       ）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7" name="图片 31" descr="234768-14051F0212184.jpg"/>
            <p:cNvPicPr/>
            <p:nvPr/>
          </p:nvPicPr>
          <p:blipFill>
            <a:blip r:embed="rId1"/>
            <a:stretch/>
          </p:blipFill>
          <p:spPr>
            <a:xfrm flipH="1">
              <a:off x="356760" y="2643120"/>
              <a:ext cx="928440" cy="142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8" name="组合 42"/>
          <p:cNvGrpSpPr/>
          <p:nvPr/>
        </p:nvGrpSpPr>
        <p:grpSpPr>
          <a:xfrm>
            <a:off x="4000680" y="3286080"/>
            <a:ext cx="3956040" cy="1571760"/>
            <a:chOff x="4000680" y="3286080"/>
            <a:chExt cx="3956040" cy="1571760"/>
          </a:xfrm>
        </p:grpSpPr>
        <p:pic>
          <p:nvPicPr>
            <p:cNvPr id="1109" name="图片 32" descr="20087116614671_2.jpg"/>
            <p:cNvPicPr/>
            <p:nvPr/>
          </p:nvPicPr>
          <p:blipFill>
            <a:blip r:embed="rId2"/>
            <a:stretch/>
          </p:blipFill>
          <p:spPr>
            <a:xfrm>
              <a:off x="6960960" y="3286080"/>
              <a:ext cx="99576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0" name="AutoShape 27"/>
            <p:cNvSpPr/>
            <p:nvPr/>
          </p:nvSpPr>
          <p:spPr>
            <a:xfrm>
              <a:off x="4000680" y="3443040"/>
              <a:ext cx="2855520" cy="1008360"/>
            </a:xfrm>
            <a:prstGeom prst="wedgeRoundRectCallout">
              <a:avLst>
                <a:gd name="adj1" fmla="val 57402"/>
                <a:gd name="adj2" fmla="val -362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5</a:t>
              </a: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÷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=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      ）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50</a:t>
              </a: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÷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0=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      ）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1" name="组合 36"/>
          <p:cNvGrpSpPr/>
          <p:nvPr/>
        </p:nvGrpSpPr>
        <p:grpSpPr>
          <a:xfrm>
            <a:off x="2428920" y="5500440"/>
            <a:ext cx="784080" cy="623520"/>
            <a:chOff x="2428920" y="5500440"/>
            <a:chExt cx="784080" cy="623520"/>
          </a:xfrm>
        </p:grpSpPr>
        <p:cxnSp>
          <p:nvCxnSpPr>
            <p:cNvPr id="1112" name="直接箭头连接符 7"/>
            <p:cNvCxnSpPr/>
            <p:nvPr/>
          </p:nvCxnSpPr>
          <p:spPr>
            <a:xfrm>
              <a:off x="2758680" y="5500440"/>
              <a:ext cx="1080" cy="199080"/>
            </a:xfrm>
            <a:prstGeom prst="straightConnector1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</p:cxnSp>
        <p:sp>
          <p:nvSpPr>
            <p:cNvPr id="1113" name="文本框 5137"/>
            <p:cNvSpPr/>
            <p:nvPr/>
          </p:nvSpPr>
          <p:spPr>
            <a:xfrm>
              <a:off x="2428920" y="566424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1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4" name="组合 37"/>
          <p:cNvGrpSpPr/>
          <p:nvPr/>
        </p:nvGrpSpPr>
        <p:grpSpPr>
          <a:xfrm>
            <a:off x="5889600" y="5500440"/>
            <a:ext cx="662040" cy="623520"/>
            <a:chOff x="5889600" y="5500440"/>
            <a:chExt cx="662040" cy="623520"/>
          </a:xfrm>
        </p:grpSpPr>
        <p:cxnSp>
          <p:nvCxnSpPr>
            <p:cNvPr id="1115" name="直接箭头连接符 8"/>
            <p:cNvCxnSpPr/>
            <p:nvPr/>
          </p:nvCxnSpPr>
          <p:spPr>
            <a:xfrm>
              <a:off x="6221160" y="5500440"/>
              <a:ext cx="1080" cy="199080"/>
            </a:xfrm>
            <a:prstGeom prst="straightConnector1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</p:cxnSp>
        <p:sp>
          <p:nvSpPr>
            <p:cNvPr id="1116" name="文本框 75"/>
            <p:cNvSpPr/>
            <p:nvPr/>
          </p:nvSpPr>
          <p:spPr>
            <a:xfrm>
              <a:off x="5889600" y="5664240"/>
              <a:ext cx="66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7" name="文本框 70"/>
          <p:cNvSpPr/>
          <p:nvPr/>
        </p:nvSpPr>
        <p:spPr>
          <a:xfrm>
            <a:off x="5332320" y="3525840"/>
            <a:ext cx="6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文本框 71"/>
          <p:cNvSpPr/>
          <p:nvPr/>
        </p:nvSpPr>
        <p:spPr>
          <a:xfrm>
            <a:off x="5710320" y="3975120"/>
            <a:ext cx="60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文本框 72"/>
          <p:cNvSpPr/>
          <p:nvPr/>
        </p:nvSpPr>
        <p:spPr>
          <a:xfrm>
            <a:off x="2076480" y="2254320"/>
            <a:ext cx="60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文本框 74"/>
          <p:cNvSpPr/>
          <p:nvPr/>
        </p:nvSpPr>
        <p:spPr>
          <a:xfrm>
            <a:off x="3430440" y="2698920"/>
            <a:ext cx="6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1" name="组合 40"/>
          <p:cNvGrpSpPr/>
          <p:nvPr/>
        </p:nvGrpSpPr>
        <p:grpSpPr>
          <a:xfrm>
            <a:off x="4000680" y="785880"/>
            <a:ext cx="4860720" cy="2286000"/>
            <a:chOff x="4000680" y="785880"/>
            <a:chExt cx="4860720" cy="2286000"/>
          </a:xfrm>
        </p:grpSpPr>
        <p:pic>
          <p:nvPicPr>
            <p:cNvPr id="1122" name="图片 30" descr="0.gif"/>
            <p:cNvPicPr/>
            <p:nvPr/>
          </p:nvPicPr>
          <p:blipFill>
            <a:blip r:embed="rId3"/>
            <a:stretch/>
          </p:blipFill>
          <p:spPr>
            <a:xfrm>
              <a:off x="7500600" y="1643040"/>
              <a:ext cx="136080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3" name="AutoShape 27"/>
            <p:cNvSpPr/>
            <p:nvPr/>
          </p:nvSpPr>
          <p:spPr>
            <a:xfrm>
              <a:off x="4000680" y="785880"/>
              <a:ext cx="3453480" cy="1000080"/>
            </a:xfrm>
            <a:prstGeom prst="wedgeRoundRectCallout">
              <a:avLst>
                <a:gd name="adj1" fmla="val 57222"/>
                <a:gd name="adj2" fmla="val 3808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你知道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方正楷体简体"/>
                </a:rPr>
                <a:t>150</a:t>
              </a: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÷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方正楷体简体"/>
                </a:rPr>
                <a:t>50</a:t>
              </a:r>
              <a:r>
                <a:rPr b="0" lang="zh-CN" sz="24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等于几吗？你是怎么想的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4" name="TextBox 28"/>
          <p:cNvSpPr/>
          <p:nvPr/>
        </p:nvSpPr>
        <p:spPr>
          <a:xfrm>
            <a:off x="357120" y="800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50÷50=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文本框 72"/>
          <p:cNvSpPr/>
          <p:nvPr/>
        </p:nvSpPr>
        <p:spPr>
          <a:xfrm>
            <a:off x="2146320" y="789120"/>
            <a:ext cx="60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Box 35"/>
          <p:cNvSpPr/>
          <p:nvPr/>
        </p:nvSpPr>
        <p:spPr>
          <a:xfrm>
            <a:off x="1071720" y="50720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想一想：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22÷30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≈</a:t>
            </a:r>
            <a:r>
              <a:rPr b="0" lang="zh-CN" sz="25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20÷28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≈</a:t>
            </a:r>
            <a:r>
              <a:rPr b="0" lang="zh-CN" sz="25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文本框 72"/>
          <p:cNvSpPr/>
          <p:nvPr/>
        </p:nvSpPr>
        <p:spPr>
          <a:xfrm>
            <a:off x="3929040" y="5072040"/>
            <a:ext cx="6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文本框 72"/>
          <p:cNvSpPr/>
          <p:nvPr/>
        </p:nvSpPr>
        <p:spPr>
          <a:xfrm>
            <a:off x="7000920" y="5072040"/>
            <a:ext cx="60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八边形 7"/>
          <p:cNvSpPr/>
          <p:nvPr/>
        </p:nvSpPr>
        <p:spPr>
          <a:xfrm>
            <a:off x="314280" y="779400"/>
            <a:ext cx="52236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0" name="组合 43"/>
          <p:cNvGrpSpPr/>
          <p:nvPr/>
        </p:nvGrpSpPr>
        <p:grpSpPr>
          <a:xfrm>
            <a:off x="1571760" y="1285920"/>
            <a:ext cx="6554520" cy="1285920"/>
            <a:chOff x="1571760" y="1285920"/>
            <a:chExt cx="6554520" cy="1285920"/>
          </a:xfrm>
        </p:grpSpPr>
        <p:sp>
          <p:nvSpPr>
            <p:cNvPr id="1131" name="TextBox 27"/>
            <p:cNvSpPr/>
            <p:nvPr/>
          </p:nvSpPr>
          <p:spPr>
            <a:xfrm>
              <a:off x="1571760" y="142848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口算下面各题，并说一说你是怎么想的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2" name="图片 28" descr="234768-14051F0212184.jpg"/>
            <p:cNvPicPr/>
            <p:nvPr/>
          </p:nvPicPr>
          <p:blipFill>
            <a:blip r:embed="rId1"/>
            <a:stretch/>
          </p:blipFill>
          <p:spPr>
            <a:xfrm>
              <a:off x="7286760" y="1285920"/>
              <a:ext cx="83952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3" name="圆角矩形标注 30"/>
            <p:cNvSpPr/>
            <p:nvPr/>
          </p:nvSpPr>
          <p:spPr>
            <a:xfrm>
              <a:off x="1571760" y="1428480"/>
              <a:ext cx="5643720" cy="500040"/>
            </a:xfrm>
            <a:prstGeom prst="wedgeRoundRectCallout">
              <a:avLst>
                <a:gd name="adj1" fmla="val 49902"/>
                <a:gd name="adj2" fmla="val 89254"/>
                <a:gd name="adj3" fmla="val 16667"/>
              </a:avLst>
            </a:prstGeom>
            <a:noFill/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4" name="组合 32"/>
          <p:cNvGrpSpPr/>
          <p:nvPr/>
        </p:nvGrpSpPr>
        <p:grpSpPr>
          <a:xfrm>
            <a:off x="714240" y="4573440"/>
            <a:ext cx="7143840" cy="1690920"/>
            <a:chOff x="714240" y="4573440"/>
            <a:chExt cx="7143840" cy="1690920"/>
          </a:xfrm>
        </p:grpSpPr>
        <p:pic>
          <p:nvPicPr>
            <p:cNvPr id="1135" name="图片 29" descr="20087116614671_2.jpg"/>
            <p:cNvPicPr/>
            <p:nvPr/>
          </p:nvPicPr>
          <p:blipFill>
            <a:blip r:embed="rId2"/>
            <a:stretch/>
          </p:blipFill>
          <p:spPr>
            <a:xfrm flipH="1">
              <a:off x="714240" y="4573440"/>
              <a:ext cx="1121760" cy="16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6" name="AutoShape 27"/>
            <p:cNvSpPr/>
            <p:nvPr/>
          </p:nvSpPr>
          <p:spPr>
            <a:xfrm>
              <a:off x="1836000" y="4859280"/>
              <a:ext cx="6022080" cy="1000440"/>
            </a:xfrm>
            <a:prstGeom prst="wedgeRoundRectCallout">
              <a:avLst>
                <a:gd name="adj1" fmla="val -53657"/>
                <a:gd name="adj2" fmla="val -389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84÷30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我是这么想的：把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84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看成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80÷30=6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，所以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84÷30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≈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7" name="TextBox 34"/>
          <p:cNvSpPr/>
          <p:nvPr/>
        </p:nvSpPr>
        <p:spPr>
          <a:xfrm>
            <a:off x="73080" y="2637000"/>
            <a:ext cx="1128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. 180÷30=        240÷40=        420÷60=        210÷30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84÷30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≈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40÷37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≈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20÷62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≈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10÷29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≈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8" name="组合 63"/>
          <p:cNvGrpSpPr/>
          <p:nvPr/>
        </p:nvGrpSpPr>
        <p:grpSpPr>
          <a:xfrm>
            <a:off x="395280" y="3746160"/>
            <a:ext cx="806400" cy="617400"/>
            <a:chOff x="395280" y="3746160"/>
            <a:chExt cx="806400" cy="617400"/>
          </a:xfrm>
        </p:grpSpPr>
        <p:cxnSp>
          <p:nvCxnSpPr>
            <p:cNvPr id="1139" name="直接箭头连接符 44"/>
            <p:cNvCxnSpPr/>
            <p:nvPr/>
          </p:nvCxnSpPr>
          <p:spPr>
            <a:xfrm>
              <a:off x="794880" y="3746160"/>
              <a:ext cx="1080" cy="199080"/>
            </a:xfrm>
            <a:prstGeom prst="straightConnector1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</p:cxnSp>
        <p:sp>
          <p:nvSpPr>
            <p:cNvPr id="1140" name="文本框 25"/>
            <p:cNvSpPr/>
            <p:nvPr/>
          </p:nvSpPr>
          <p:spPr>
            <a:xfrm>
              <a:off x="395280" y="3903840"/>
              <a:ext cx="8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1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1" name="文本框 26"/>
          <p:cNvSpPr/>
          <p:nvPr/>
        </p:nvSpPr>
        <p:spPr>
          <a:xfrm>
            <a:off x="1644480" y="3351240"/>
            <a:ext cx="6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文本框 27"/>
          <p:cNvSpPr/>
          <p:nvPr/>
        </p:nvSpPr>
        <p:spPr>
          <a:xfrm>
            <a:off x="1722600" y="2819520"/>
            <a:ext cx="60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文本框 30"/>
          <p:cNvSpPr/>
          <p:nvPr/>
        </p:nvSpPr>
        <p:spPr>
          <a:xfrm>
            <a:off x="3576600" y="3357720"/>
            <a:ext cx="6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文本框 31"/>
          <p:cNvSpPr/>
          <p:nvPr/>
        </p:nvSpPr>
        <p:spPr>
          <a:xfrm>
            <a:off x="3716280" y="2819520"/>
            <a:ext cx="6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文本框 34"/>
          <p:cNvSpPr/>
          <p:nvPr/>
        </p:nvSpPr>
        <p:spPr>
          <a:xfrm>
            <a:off x="5554800" y="3349800"/>
            <a:ext cx="6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文本框 35"/>
          <p:cNvSpPr/>
          <p:nvPr/>
        </p:nvSpPr>
        <p:spPr>
          <a:xfrm>
            <a:off x="5621400" y="2827440"/>
            <a:ext cx="60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文本框 38"/>
          <p:cNvSpPr/>
          <p:nvPr/>
        </p:nvSpPr>
        <p:spPr>
          <a:xfrm>
            <a:off x="7574040" y="3382920"/>
            <a:ext cx="6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文本框 39"/>
          <p:cNvSpPr/>
          <p:nvPr/>
        </p:nvSpPr>
        <p:spPr>
          <a:xfrm>
            <a:off x="7574040" y="2793960"/>
            <a:ext cx="60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9" name="组合 64"/>
          <p:cNvGrpSpPr/>
          <p:nvPr/>
        </p:nvGrpSpPr>
        <p:grpSpPr>
          <a:xfrm>
            <a:off x="2954160" y="3798360"/>
            <a:ext cx="601920" cy="612720"/>
            <a:chOff x="2954160" y="3798360"/>
            <a:chExt cx="601920" cy="612720"/>
          </a:xfrm>
        </p:grpSpPr>
        <p:sp>
          <p:nvSpPr>
            <p:cNvPr id="1150" name="文本框 29"/>
            <p:cNvSpPr/>
            <p:nvPr/>
          </p:nvSpPr>
          <p:spPr>
            <a:xfrm>
              <a:off x="2954160" y="3951360"/>
              <a:ext cx="60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51" name="直接箭头连接符 57"/>
            <p:cNvCxnSpPr/>
            <p:nvPr/>
          </p:nvCxnSpPr>
          <p:spPr>
            <a:xfrm>
              <a:off x="3220560" y="3798360"/>
              <a:ext cx="1080" cy="199080"/>
            </a:xfrm>
            <a:prstGeom prst="straightConnector1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</p:cxnSp>
      </p:grpSp>
      <p:grpSp>
        <p:nvGrpSpPr>
          <p:cNvPr id="1152" name="组合 65"/>
          <p:cNvGrpSpPr/>
          <p:nvPr/>
        </p:nvGrpSpPr>
        <p:grpSpPr>
          <a:xfrm>
            <a:off x="4941720" y="3785760"/>
            <a:ext cx="601920" cy="605880"/>
            <a:chOff x="4941720" y="3785760"/>
            <a:chExt cx="601920" cy="605880"/>
          </a:xfrm>
        </p:grpSpPr>
        <p:sp>
          <p:nvSpPr>
            <p:cNvPr id="1153" name="文本框 33"/>
            <p:cNvSpPr/>
            <p:nvPr/>
          </p:nvSpPr>
          <p:spPr>
            <a:xfrm>
              <a:off x="4941720" y="3931920"/>
              <a:ext cx="60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54" name="直接箭头连接符 58"/>
            <p:cNvCxnSpPr/>
            <p:nvPr/>
          </p:nvCxnSpPr>
          <p:spPr>
            <a:xfrm>
              <a:off x="5227200" y="3785760"/>
              <a:ext cx="1080" cy="199080"/>
            </a:xfrm>
            <a:prstGeom prst="straightConnector1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</p:cxnSp>
      </p:grpSp>
      <p:grpSp>
        <p:nvGrpSpPr>
          <p:cNvPr id="1155" name="组合 66"/>
          <p:cNvGrpSpPr/>
          <p:nvPr/>
        </p:nvGrpSpPr>
        <p:grpSpPr>
          <a:xfrm>
            <a:off x="6953400" y="3752640"/>
            <a:ext cx="601560" cy="605880"/>
            <a:chOff x="6953400" y="3752640"/>
            <a:chExt cx="601560" cy="605880"/>
          </a:xfrm>
        </p:grpSpPr>
        <p:sp>
          <p:nvSpPr>
            <p:cNvPr id="1156" name="文本框 33"/>
            <p:cNvSpPr/>
            <p:nvPr/>
          </p:nvSpPr>
          <p:spPr>
            <a:xfrm>
              <a:off x="6953400" y="3898800"/>
              <a:ext cx="60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57" name="直接箭头连接符 62"/>
            <p:cNvCxnSpPr/>
            <p:nvPr/>
          </p:nvCxnSpPr>
          <p:spPr>
            <a:xfrm>
              <a:off x="7238880" y="3752640"/>
              <a:ext cx="1080" cy="199080"/>
            </a:xfrm>
            <a:prstGeom prst="straightConnector1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</p:cxnSp>
      </p:grp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5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6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69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Box 32"/>
          <p:cNvSpPr/>
          <p:nvPr/>
        </p:nvSpPr>
        <p:spPr>
          <a:xfrm>
            <a:off x="179280" y="1119240"/>
            <a:ext cx="8448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整十数除以整十数的口算方法：①根据乘除法的关系想乘法算除法。②利用表内除法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估算：把非整十数按照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四舍五入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法看作与它接近的整十数，然后口算出结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2T01:07:42Z</dcterms:created>
  <dc:creator/>
  <dc:description/>
  <dc:language>en-US</dc:language>
  <cp:lastModifiedBy>万润仪器贸易公司</cp:lastModifiedBy>
  <dcterms:modified xsi:type="dcterms:W3CDTF">2020-08-21T08:59:00Z</dcterms:modified>
  <cp:revision>2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